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4609-303C-48F0-8258-F83CE6D9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010-DD7A-4FFE-9AF7-BA1FD07F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148-E1E5-46D1-B93C-3F87BFF7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B79F-1D55-4251-A8B0-EBB42103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B3D-BC26-4886-ACA9-28DE59A2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6D6-C1A9-4AF1-853A-8FE90248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1E2-89A4-4CC8-BEF7-90122648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A10-CC92-493F-B150-BEFE6420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6B8-8ACD-4BC1-B6ED-B798DE55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190-85EB-4C98-826B-D76A8620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26A-21B0-4D67-9128-D9F11BD8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DB9-525E-4653-A413-634DA6ED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A58C-4DC8-4B24-A62F-2DA4D2622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12536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evamos    azules    cómodo    hay    invierno    llevo    mi    que    sudadera    vaquera 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________ instituto n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forme, menos mal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que queremos. Normalmen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quer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una camiseta. Durante 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evo u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 capucha o una chaque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Llevo zapatillas deportivas. Es mucho má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ráctic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levar unifor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692280"/>
            <a:ext cx="856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dón    amarilla    anchos    barata    caras    chaqueta    cuero    que 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os zapatillas de deporte son más  ____________que las zapatos de cuer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a camise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más ____________ que la camiseta roj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quera es más barata que el abrigo de ____________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Los pantalones son más ____________ que los vaqueros azul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La camisa de ____________ es más bonita ____________ la blusa neg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5:09:48Z</dcterms:created>
  <dc:creator>Owner1</dc:creator>
  <dc:description/>
  <dc:language>en-US</dc:language>
  <cp:lastModifiedBy>Owner1</cp:lastModifiedBy>
  <dcterms:modified xsi:type="dcterms:W3CDTF">2008-10-14T17:38:10Z</dcterms:modified>
  <cp:revision>1</cp:revision>
  <dc:subject/>
  <dc:title>Slide 1</dc:title>
</cp:coreProperties>
</file>